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EEF-DB31-4F1F-849E-79DF087B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CAB-BC9C-4678-8EC1-F99F8661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DB0-7607-4304-A164-7E5CCB89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E01-D6FA-43F8-9720-C8A28426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560-1FE2-463D-B1C7-BA0933C7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F10-340C-4F3F-8032-594E909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17DE-06D4-4536-BABA-E8507FC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A3D8-67C5-46BA-A656-C606752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E789-8997-487B-95B8-D55A609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66B-1FC5-46C1-A5AA-81CFBE06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4A8B-5D2F-483A-A680-17A7C36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7BA-A05A-4509-9C17-B4A6136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4DDF-D55E-4624-A1BC-B1AD4E2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274F-D5B1-463A-A65E-D211FCA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DBB7-5BB6-48E0-BBB8-5914847C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FFC-EC37-41F3-9674-1BB06C1C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A1B8-6AD6-4CBE-BD2B-1F41A928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5961-40C6-45FA-821B-109426B2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1061-BA48-47D5-8506-D334836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33C4-3DF8-45F8-BF2F-E6BDCE3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0B63-98E8-434E-8039-C9579C6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C207-49A4-4EF2-81FD-AFBB5C5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DB3-9900-44C7-83B1-EF5CCBD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1EB6-3079-4FC8-BCD5-188A273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C383-7FA1-405C-9F98-0729D1B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3F05-3BDE-4C54-985E-6A4FF47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AC42-86CE-4E2A-A16C-A12194C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546F-4BD2-473E-B95F-863DD0FB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F159-C531-450A-8501-94C6DDF8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0CCD-E301-4F9D-97D6-CCE6B08F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0646-CA03-4817-9A60-14DBD227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C3CB-BDDA-403B-A029-1B6FA0E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D4D5-2F64-4BD7-A53E-EEEFD01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18B-9AD5-4490-8716-F42A1918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24F9D-4D1F-4923-8ECD-09FCE73C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0F5D-AF27-44B9-8227-A31A2D7F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A34A-4328-40EA-9936-1B5ADDEC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F4C0-04E9-4B18-A159-0632465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E23E-714B-4F16-82DE-07C4E09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B2D0-EEB5-4789-977B-69C154A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676F8-A9AC-4960-9948-56AAC6DE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1961-9797-4034-94FC-29004C61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1617-7EB7-4010-9985-40012CCF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7E9-42CE-45BF-9983-958F8BD7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4D2-51CB-4CB6-AAB6-285A23B3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DBB-3552-4611-8787-0011C65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CD8-9469-4081-BD50-30AB429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C09-744D-491F-B462-032072E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CD67-EB95-4E09-BF42-AFF906A93E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7CA1-C09C-4AC9-8BAA-75C7B9680F1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5D8-7D9E-4141-9244-183C6EE6C2B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529B-BAC3-4CD9-8795-332B48F80B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sanna.21428s12.edusite.ru/p4aa1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520" y="4500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onstantia"/>
              </a:rPr>
              <a:t>Исследовательская группа: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onstantia"/>
              </a:rPr>
              <a:t>Иванов И.И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onstantia"/>
              </a:rPr>
              <a:t>Петров П.П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Почему небо голубое. Почему Солнце желто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0040" y="221472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и вопросы, такие естественные, возникали перед человеком с глубокой древности. Однако чтобы получить правильное объяснение этих явлений, потребовались усилия выдающихся ученых средних веков и более позднего времени, вплоть до конца XIX 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4" descr="d6025f4a8a94.jpg"/>
          <p:cNvPicPr/>
          <p:nvPr/>
        </p:nvPicPr>
        <p:blipFill>
          <a:blip r:embed="rId1"/>
          <a:stretch/>
        </p:blipFill>
        <p:spPr>
          <a:xfrm>
            <a:off x="4359240" y="4334040"/>
            <a:ext cx="4199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Методы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6d"/>
                </a:solidFill>
                <a:latin typeface="Comic Sans MS"/>
              </a:rPr>
              <a:t>Анализ данных сети </a:t>
            </a:r>
            <a:r>
              <a:rPr b="1" lang="en-US" sz="2800" spc="-1" strike="noStrike">
                <a:solidFill>
                  <a:srgbClr val="004e6d"/>
                </a:solidFill>
                <a:latin typeface="Comic Sans M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6d"/>
                </a:solidFill>
                <a:latin typeface="Comic Sans MS"/>
              </a:rPr>
              <a:t>Анализ литерат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HJ163_350A_enl.jpg"/>
          <p:cNvPicPr/>
          <p:nvPr/>
        </p:nvPicPr>
        <p:blipFill>
          <a:blip r:embed="rId1"/>
          <a:stretch/>
        </p:blipFill>
        <p:spPr>
          <a:xfrm>
            <a:off x="4883040" y="2273400"/>
            <a:ext cx="3900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Какие гипотезы существова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7856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аких только гипотез не выдвигалось в разное время для объяснения цвета неб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8684e"/>
                </a:solidFill>
                <a:uFillTx/>
                <a:latin typeface="Bookman Old Style"/>
              </a:rPr>
              <a:t>1 гипотез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аблюдая, как дым на фоне темного камина приобретает сине­ватый цвет, Леонардо да Винчи писал: „...светлота поверх темноты стано­вится синей, тем более прекрасной, чем превосходными будут светлое и тем­ное". Примерно такой же точки зрения придерживался Гёте, который был не только всемирно известным поэтом, но и крупнейшим ученым естество­испытателем своего времени. Однако такое объяснение цвета неба оказалось несостоятельным, поскольку, как стало очевидно позднее, смешение черного И белого может дать только серые тона, а не цветные. Синий цвет дыма из камина обусловливается совершенно другим процесс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Какие гипотезы существова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8684e"/>
                </a:solidFill>
                <a:uFillTx/>
                <a:latin typeface="Bookman Old Style"/>
              </a:rPr>
              <a:t>2 гипоте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сле открытия интерференции, в частности в тонких пленках, Ньютон пытался применить интерференцию к объяснению цвета неба. Для этого ему пришлось допустить, что капли воды имеют форму тонкостенных пузы­рей, наподобие мыльных. Но так как капельки воды, содержащиеся в атмосфере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действительности представляют собой сферы, то и эта гипотеза вскоре „лопнула", как мыльный пузыр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Какие гипотезы существова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8684e"/>
                </a:solidFill>
                <a:uFillTx/>
                <a:latin typeface="Bookman Old Style"/>
              </a:rPr>
              <a:t>3 гипоте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ченые XVIII в. Мариотт, Бугер, Эйлер думали, что голубой цвет неба объясняется собственным цветом составных частей воздуха. Такое объяс­нение даже получило некоторое подтверждение позднее, уже в XIX в., когда установили, что жидкий кислород имеет голубой цвет, а жидкий озон — синий. Ближе всех к правильному объяснению цвета неба подошел О. Б. Соссюр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н считал, что если бы воздух был абсолютно чистым, то небо было бы черным, но воздух содержит примеси, которые отражают преимущественно   голубой   цвет   (в   частности — водяной   пар   и   капельки   воды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Итоги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2" descr=""/>
          <p:cNvPicPr/>
          <p:nvPr/>
        </p:nvPicPr>
        <p:blipFill>
          <a:blip r:embed="rId2"/>
          <a:stretch/>
        </p:blipFill>
        <p:spPr>
          <a:xfrm>
            <a:off x="365040" y="2077920"/>
            <a:ext cx="83883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Итоги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2" descr=""/>
          <p:cNvPicPr/>
          <p:nvPr/>
        </p:nvPicPr>
        <p:blipFill>
          <a:blip r:embed="rId2"/>
          <a:stretch/>
        </p:blipFill>
        <p:spPr>
          <a:xfrm>
            <a:off x="390600" y="1695600"/>
            <a:ext cx="83754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ет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В. Зверева.В мире солнечного света.Л.,Гидрометеоиздат,19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susanna.21428s12.edusite.ru/p4aa1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Рисунок 3" descr="294575.jpg"/>
          <p:cNvPicPr/>
          <p:nvPr/>
        </p:nvPicPr>
        <p:blipFill>
          <a:blip r:embed="rId2"/>
          <a:stretch/>
        </p:blipFill>
        <p:spPr>
          <a:xfrm>
            <a:off x="1974960" y="3425760"/>
            <a:ext cx="46450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80</cp:lastModifiedBy>
  <dcterms:modified xsi:type="dcterms:W3CDTF">2010-05-22T05:43:23Z</dcterms:modified>
  <cp:revision>3</cp:revision>
  <dc:subject/>
  <dc:title>Почему небо голубое?</dc:title>
</cp:coreProperties>
</file>